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4176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70D9C-DA72-4626-B864-B1735DE070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2091F-5548-4859-83B4-8010E295FC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018D9-F19E-4A16-910C-3EABBE58B5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472F6-64E3-4F75-9CD7-1D7394AB95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E6122-E7CF-4A9B-B8DF-4B5385FA24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2E23E-116C-4418-918D-6994CFB28A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5004C-A727-495D-B380-062017DB4B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30662-80A3-44FC-B1E4-DC26F0C74E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44C7B-C141-408C-A05D-F378ECEBBD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E4D82-5141-48E5-A38C-516C06B1FA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CE031-5F1E-4DD8-85E0-B659BA04DA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A53AC-4754-4C2A-86EB-C60BBC8EC8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598DD-9FFA-4479-BF8F-E1C0150A63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6AE37-81AC-453B-9E3E-05008FD3B2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BE048-DE4A-4C6B-BBAD-FAA8931663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B84F7-4BB5-493B-8D39-DA9402DE9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FB310-8E02-4B8A-9BCE-CDCF371DA7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388476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098DB-2A5F-4EF2-BFE2-001316C120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DCD76-5F83-4BDB-B5B2-85F43F13B8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BD034-AA6A-417E-80DE-A705628581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0F557-C5D5-4685-AB06-5BA4A55746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97D90-FFB3-4022-927B-FEB6BBB9FF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CB0B8-371F-49BF-9310-2B6AF7F71C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63DE7-DEFA-4A8C-8384-8035B46908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ED67B-17C3-4F75-85C8-829D9211CF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A8C00-689D-4B7B-B4D0-F017B33E4E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A2484-07C7-4AAE-B3A1-1E3C00105D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D0408-D738-486D-8E6D-610F9CAD24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556CD-F3B9-4048-8B04-D30C9DCBDB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3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FB5B2-A1E5-46E9-8DA2-7AF12C2C52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1143000" y="685800"/>
            <a:ext cx="455148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608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DA251-3E60-4278-9BE3-627A89A38D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5"/>
          <p:cNvSpPr/>
          <p:nvPr/>
        </p:nvSpPr>
        <p:spPr>
          <a:xfrm>
            <a:off x="3884760" y="8685360"/>
            <a:ext cx="294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8CA28-4D69-48FA-9EFC-E9959B21F1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7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5B0-94A3-4868-B5D7-09A45CA2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88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24A-1366-470C-9017-D0B5A313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876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E79-51F5-45E4-8A14-0666E26E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956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1560" y="171900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956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1560" y="4007880"/>
            <a:ext cx="263988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19E-B4A1-4337-950F-CB5AFFDC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935-B081-4C08-9162-92774BFF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8D4-6455-4C2C-8AEE-AF59491F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DC9-1B77-4793-9D80-81143290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DE9-6165-41DF-8F9A-97A65944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13560" cy="58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3C5-10F2-4437-A135-2AD67772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2F3-482D-44C8-A244-3DFC6342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8760" y="400788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D16-87B8-4569-AF45-318F5A1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8760" y="1719000"/>
            <a:ext cx="400104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880"/>
            <a:ext cx="81993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89A-0F5B-42FF-99CA-6FB2BE2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65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FA80B-5083-4B4D-875F-12E4431747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9" descr="C:\Users\birdtr\Desktop\LCJ-from-timdesk\2011-06-LCJ\CEWG-square-image.jpg"/>
          <p:cNvPicPr/>
          <p:nvPr/>
        </p:nvPicPr>
        <p:blipFill>
          <a:blip r:embed="rId3"/>
          <a:stretch/>
        </p:blipFill>
        <p:spPr>
          <a:xfrm>
            <a:off x="9360" y="166680"/>
            <a:ext cx="140184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00000" y="30686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tus o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mbedded Linu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im Bi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 Group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LF CE Work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44520" y="676440"/>
            <a:ext cx="8454960" cy="18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Flash Storage host controller d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scsi/ufs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clock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fies handling of subsystem c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clk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SI (High-speed synchronous serial interface)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for communication between CPU and cellular modem eng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4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MA buffer sharing AP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teproc sub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for control of other CPUs through shared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pmsg  is a new mechanism for communicating with other CPUs (running non-Linu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remoteproc.txt and rpmsg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5 (probabl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log r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printk (new format), with ta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92125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for writing NFC dri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tion of ramoops and p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 of work to support Android ram_cons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ings to wat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t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g/Lit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kernel image for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 of lots of device tree and ARM refactoring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LinuxCon Japan talk by Deepak Sax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so much a kernel problem any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previous talks and presen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kernel techniques on eLinux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tp://elinux.org/Boot_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-space is big problem area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rnel should provide features for overall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resentation by Andrew Murray at ELC Europe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good philosophy of boot tim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tup time work = re-specialization of softw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up Time technolog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otloader impro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-Boot ARM caching enhanc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napshot 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d topic, but still very pop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work both inside and outsid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much mainl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ELC 2011 presentation by Kang Dongw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GL ES is de-facto standard everyw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had Skia, but is moving to HW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platforms can use Clutter, Qt, and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mebuffer is going away, with acceleration required for larger scre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work around memory management between kernel, user-space and GP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has /dev/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unified approach to buffer management and sharing between display, GPU, camera, codecs, etc, new in Ice Cream Sandwi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lacement for pm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line has Contiguous Memory Allocator (CMA) and dma-bu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68044/ - C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70339/ - dma-bu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lerated rend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lerated rendering is a big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 introduced render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LLVM to do runtime retargeting of script to whatever capabilities device 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ility to support GPU in SOC is very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ics Driv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VR graphics d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VR is being used lots of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l adopted for Cedarview and it's already in Sodavil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in very many ARM SOC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VR driver is closed-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ear way to pressure ImageTech or write community d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ulti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strea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ill being used in TV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: Google TV uses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media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gefright – new media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laces OpenCor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dec w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M/VP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 codec by Goog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grated into HTML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ing JFFS2 as default raw flash FS of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s some boot tim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FFS2 is not in mainline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CELF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to be aband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XIP File system – developed by Intel/Numonyx but never main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y us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 using Ext4 on eMMC on current Android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more raw NAND fla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t to optimize Linux block filesystem layers for fl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Arnd Bergmann's talk at ELC Europe 2011 on filesystem performance on cheap flash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Ken Tough’s ELC 2012 tal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99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time 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ly new ability to suspend and resume individual system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347573/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Magnus Damm’s slides at: http://elinux.org/ELC_2011_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power doma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of devices sharing power resources (clocks, power plane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Rafael Wysocki’s talks at LinuxCon Japan 2011 and ELC Europ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attempt at wakelock-compatible solution by Rafael Wysoc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sleep and wakelock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479841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fael: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is series tests the theory that the easiest way to sell a once rejected feature is to advertise it under a different na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ears to be generating less heated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talks recentl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i Wang at ELC 2011 about optimizing memory usage throughout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rren Hart at ELCE 2011 – poky-t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space is memory problem area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M killer or OOM avoidance is big 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group memory not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roid has it's own low memory kill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lifecycle is key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EWG Contract Work 201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fast symbol re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Device Firmware Upgrade (DFU) code in U-Bo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on Linux tiny pat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prove UBIFS mount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the watchdog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tend bluetooth st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Kernel trace and debug docu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Detai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line fast symbol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 symbol lookup to use binary search instead of linear scan to speed up modu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ready mainlined (Linux v3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line DFU code in U-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Firmware Upgrade (DFU) is an industry standard for upgrading and manipulating firmware in embedde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mainlined in u-boot and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on Linux tiny p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ve Linux-tiny patch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-port patches to latest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ore patches to improve kernel configu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6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work was with function-sections for 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Details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prove UBIFS mount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 logging or checkpointing to UBI to avoid bad-block scan of whole device on UBI att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ies fo “fastmap” patches submitted over last few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 filesystem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ublish performance results for each new kernel 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ts of great data – charts and graph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 out: http://elinux.org/Flash_Filesystem_Benchma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-4191120" y="2467080"/>
            <a:ext cx="84582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ract Work Details (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the watchdog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a generalized watchdo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ould provide easier method to add watchdogging to drivers and the kernel going for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ined in 3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tend bluetooth stack with Remote SIM Access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for Linux bluetooth and telephony stack to utilize SIM in external device f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 use is for Linux-based in-car system to utilize SIM in mobile device for telepho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lined in upstream bluez and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ng-term Projec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mainline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Term Support Initiative (LTS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Mainline Proj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719360"/>
            <a:ext cx="85345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inline Android kernel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oal is to incrementally reduce diff between Android and mainline kern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esting discussion at kernel sum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ould be nice to support Android with mainline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us – we’ve taken sub-optimal stuff bef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ulti-party effort to mainline pat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 WG, Linaro, and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reg KH put some files into drivers/st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ood meeting at Linaro Connect in Febru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 mainline stat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3.3 kernel (with 12 lines of patches) boots AOS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ieces missing: wakelocks, network security, Android USB gadg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is needed to move items from staging to fully mainl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work recently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m cons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d ti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ng Term Support Kernel for Indust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Workgroup is initiating a new project for companies to collaborate on maintaining a kernel version for embedded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long-term kernel maintained in enterprise sp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community long-term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resentation by Hisao Munakata at LinuxCon Ja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STI reas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ous effects contribute to low contribution rate from consumer electronics product te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sion gap, product schedule impedance mismatch with mainline releases, focus on short-term rather than long-term sol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nt to create an area for collaboration between companies, as well as a staging ground for moving code to main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0"/>
            <a:ext cx="1517760" cy="13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角丸四角形 73"/>
          <p:cNvSpPr/>
          <p:nvPr/>
        </p:nvSpPr>
        <p:spPr>
          <a:xfrm>
            <a:off x="1793880" y="3774960"/>
            <a:ext cx="3678120" cy="1587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角丸四角形 72"/>
          <p:cNvSpPr/>
          <p:nvPr/>
        </p:nvSpPr>
        <p:spPr>
          <a:xfrm>
            <a:off x="2227320" y="2138400"/>
            <a:ext cx="2832120" cy="98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角丸四角形 71"/>
          <p:cNvSpPr/>
          <p:nvPr/>
        </p:nvSpPr>
        <p:spPr>
          <a:xfrm>
            <a:off x="5162400" y="3657600"/>
            <a:ext cx="2492640" cy="1519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LTSI project overview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1" name="Group 258"/>
          <p:cNvGrpSpPr/>
          <p:nvPr/>
        </p:nvGrpSpPr>
        <p:grpSpPr>
          <a:xfrm>
            <a:off x="187200" y="1160640"/>
            <a:ext cx="8484840" cy="4927680"/>
            <a:chOff x="187200" y="1160640"/>
            <a:chExt cx="8484840" cy="4927680"/>
          </a:xfrm>
        </p:grpSpPr>
        <p:sp>
          <p:nvSpPr>
            <p:cNvPr id="152" name="Line 12"/>
            <p:cNvSpPr/>
            <p:nvPr/>
          </p:nvSpPr>
          <p:spPr>
            <a:xfrm>
              <a:off x="4975200" y="4213800"/>
              <a:ext cx="456480" cy="0"/>
            </a:xfrm>
            <a:prstGeom prst="line">
              <a:avLst/>
            </a:prstGeom>
            <a:ln w="2232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414320" y="2880360"/>
              <a:ext cx="456480" cy="0"/>
            </a:xfrm>
            <a:prstGeom prst="line">
              <a:avLst/>
            </a:prstGeom>
            <a:ln w="2232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06"/>
            <p:cNvSpPr/>
            <p:nvPr/>
          </p:nvSpPr>
          <p:spPr>
            <a:xfrm>
              <a:off x="217440" y="2502000"/>
              <a:ext cx="176760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71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rnel.or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71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Greg K-H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14"/>
            <p:cNvSpPr/>
            <p:nvPr/>
          </p:nvSpPr>
          <p:spPr>
            <a:xfrm>
              <a:off x="196200" y="1160640"/>
              <a:ext cx="15800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71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71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inli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04"/>
            <p:cNvSpPr/>
            <p:nvPr/>
          </p:nvSpPr>
          <p:spPr>
            <a:xfrm>
              <a:off x="187200" y="4070160"/>
              <a:ext cx="147024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71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 W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2113200" y="1514880"/>
              <a:ext cx="6276600" cy="16920"/>
            </a:xfrm>
            <a:prstGeom prst="line">
              <a:avLst/>
            </a:prstGeom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26"/>
            <p:cNvSpPr/>
            <p:nvPr/>
          </p:nvSpPr>
          <p:spPr>
            <a:xfrm>
              <a:off x="2579040" y="1762200"/>
              <a:ext cx="29412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2"/>
            <p:cNvSpPr/>
            <p:nvPr/>
          </p:nvSpPr>
          <p:spPr>
            <a:xfrm>
              <a:off x="5939640" y="2662200"/>
              <a:ext cx="1616760" cy="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94"/>
            <p:cNvSpPr/>
            <p:nvPr/>
          </p:nvSpPr>
          <p:spPr>
            <a:xfrm>
              <a:off x="5787360" y="2536200"/>
              <a:ext cx="303120" cy="250200"/>
            </a:xfrm>
            <a:prstGeom prst="ellipse">
              <a:avLst/>
            </a:prstGeom>
            <a:gradFill rotWithShape="0">
              <a:gsLst>
                <a:gs pos="0">
                  <a:srgbClr val="75dd75"/>
                </a:gs>
                <a:gs pos="100000">
                  <a:srgbClr val="366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95"/>
            <p:cNvSpPr/>
            <p:nvPr/>
          </p:nvSpPr>
          <p:spPr>
            <a:xfrm>
              <a:off x="6315120" y="2536200"/>
              <a:ext cx="303120" cy="250200"/>
            </a:xfrm>
            <a:prstGeom prst="ellipse">
              <a:avLst/>
            </a:prstGeom>
            <a:gradFill rotWithShape="0">
              <a:gsLst>
                <a:gs pos="0">
                  <a:srgbClr val="75dd75"/>
                </a:gs>
                <a:gs pos="100000">
                  <a:srgbClr val="366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96"/>
            <p:cNvSpPr/>
            <p:nvPr/>
          </p:nvSpPr>
          <p:spPr>
            <a:xfrm>
              <a:off x="6843240" y="2536200"/>
              <a:ext cx="303120" cy="250200"/>
            </a:xfrm>
            <a:prstGeom prst="ellipse">
              <a:avLst/>
            </a:prstGeom>
            <a:gradFill rotWithShape="0">
              <a:gsLst>
                <a:gs pos="0">
                  <a:srgbClr val="75dd75"/>
                </a:gs>
                <a:gs pos="100000">
                  <a:srgbClr val="366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97"/>
            <p:cNvSpPr/>
            <p:nvPr/>
          </p:nvSpPr>
          <p:spPr>
            <a:xfrm>
              <a:off x="7371000" y="2536200"/>
              <a:ext cx="303120" cy="250200"/>
            </a:xfrm>
            <a:prstGeom prst="ellipse">
              <a:avLst/>
            </a:prstGeom>
            <a:gradFill rotWithShape="0">
              <a:gsLst>
                <a:gs pos="0">
                  <a:srgbClr val="75dd75"/>
                </a:gs>
                <a:gs pos="100000">
                  <a:srgbClr val="366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5640120" y="3889800"/>
              <a:ext cx="1616040" cy="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94"/>
            <p:cNvSpPr/>
            <p:nvPr/>
          </p:nvSpPr>
          <p:spPr>
            <a:xfrm>
              <a:off x="5487840" y="3761640"/>
              <a:ext cx="303120" cy="252360"/>
            </a:xfrm>
            <a:prstGeom prst="ellipse">
              <a:avLst/>
            </a:prstGeom>
            <a:gradFill rotWithShape="0">
              <a:gsLst>
                <a:gs pos="0">
                  <a:srgbClr val="75dd75"/>
                </a:gs>
                <a:gs pos="100000">
                  <a:srgbClr val="366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95"/>
            <p:cNvSpPr/>
            <p:nvPr/>
          </p:nvSpPr>
          <p:spPr>
            <a:xfrm>
              <a:off x="6015240" y="3761640"/>
              <a:ext cx="303840" cy="252360"/>
            </a:xfrm>
            <a:prstGeom prst="ellipse">
              <a:avLst/>
            </a:prstGeom>
            <a:gradFill rotWithShape="0">
              <a:gsLst>
                <a:gs pos="0">
                  <a:srgbClr val="75dd75"/>
                </a:gs>
                <a:gs pos="100000">
                  <a:srgbClr val="366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96"/>
            <p:cNvSpPr/>
            <p:nvPr/>
          </p:nvSpPr>
          <p:spPr>
            <a:xfrm>
              <a:off x="6545520" y="3761640"/>
              <a:ext cx="299160" cy="252360"/>
            </a:xfrm>
            <a:prstGeom prst="ellipse">
              <a:avLst/>
            </a:prstGeom>
            <a:gradFill rotWithShape="0">
              <a:gsLst>
                <a:gs pos="0">
                  <a:srgbClr val="75dd75"/>
                </a:gs>
                <a:gs pos="100000">
                  <a:srgbClr val="366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97"/>
            <p:cNvSpPr/>
            <p:nvPr/>
          </p:nvSpPr>
          <p:spPr>
            <a:xfrm>
              <a:off x="7071120" y="3761640"/>
              <a:ext cx="301680" cy="252360"/>
            </a:xfrm>
            <a:prstGeom prst="ellipse">
              <a:avLst/>
            </a:prstGeom>
            <a:gradFill rotWithShape="0">
              <a:gsLst>
                <a:gs pos="0">
                  <a:srgbClr val="75dd75"/>
                </a:gs>
                <a:gs pos="100000">
                  <a:srgbClr val="366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30"/>
            <p:cNvGrpSpPr/>
            <p:nvPr/>
          </p:nvGrpSpPr>
          <p:grpSpPr>
            <a:xfrm>
              <a:off x="2782080" y="2740680"/>
              <a:ext cx="1884960" cy="249840"/>
              <a:chOff x="2782080" y="2740680"/>
              <a:chExt cx="1884960" cy="249840"/>
            </a:xfrm>
          </p:grpSpPr>
          <p:sp>
            <p:nvSpPr>
              <p:cNvPr id="170" name="Line 12"/>
              <p:cNvSpPr/>
              <p:nvPr/>
            </p:nvSpPr>
            <p:spPr>
              <a:xfrm>
                <a:off x="2934720" y="2866680"/>
                <a:ext cx="1615680" cy="0"/>
              </a:xfrm>
              <a:prstGeom prst="line">
                <a:avLst/>
              </a:prstGeom>
              <a:ln w="22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94"/>
              <p:cNvSpPr/>
              <p:nvPr/>
            </p:nvSpPr>
            <p:spPr>
              <a:xfrm>
                <a:off x="2782080" y="2740680"/>
                <a:ext cx="302760" cy="2498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95"/>
              <p:cNvSpPr/>
              <p:nvPr/>
            </p:nvSpPr>
            <p:spPr>
              <a:xfrm>
                <a:off x="3309120" y="2740680"/>
                <a:ext cx="303120" cy="2498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96"/>
              <p:cNvSpPr/>
              <p:nvPr/>
            </p:nvSpPr>
            <p:spPr>
              <a:xfrm>
                <a:off x="3836880" y="2740680"/>
                <a:ext cx="302760" cy="2498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97"/>
              <p:cNvSpPr/>
              <p:nvPr/>
            </p:nvSpPr>
            <p:spPr>
              <a:xfrm>
                <a:off x="4364280" y="2740680"/>
                <a:ext cx="302760" cy="2498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Text Box 38"/>
            <p:cNvSpPr/>
            <p:nvPr/>
          </p:nvSpPr>
          <p:spPr>
            <a:xfrm>
              <a:off x="2971440" y="2142360"/>
              <a:ext cx="13222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ng-ter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ble tre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9"/>
            <p:cNvSpPr/>
            <p:nvPr/>
          </p:nvSpPr>
          <p:spPr>
            <a:xfrm>
              <a:off x="5723640" y="2768040"/>
              <a:ext cx="11437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ging tr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Group 40"/>
            <p:cNvGrpSpPr/>
            <p:nvPr/>
          </p:nvGrpSpPr>
          <p:grpSpPr>
            <a:xfrm>
              <a:off x="2393640" y="1347840"/>
              <a:ext cx="5545080" cy="287640"/>
              <a:chOff x="2393640" y="1347840"/>
              <a:chExt cx="5545080" cy="287640"/>
            </a:xfrm>
          </p:grpSpPr>
          <p:sp>
            <p:nvSpPr>
              <p:cNvPr id="178" name="Oval 94"/>
              <p:cNvSpPr/>
              <p:nvPr/>
            </p:nvSpPr>
            <p:spPr>
              <a:xfrm>
                <a:off x="2393640" y="1347840"/>
                <a:ext cx="343440" cy="287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Oval 95"/>
              <p:cNvSpPr/>
              <p:nvPr/>
            </p:nvSpPr>
            <p:spPr>
              <a:xfrm>
                <a:off x="4052160" y="1347840"/>
                <a:ext cx="343440" cy="287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Oval 96"/>
              <p:cNvSpPr/>
              <p:nvPr/>
            </p:nvSpPr>
            <p:spPr>
              <a:xfrm>
                <a:off x="7596000" y="1347840"/>
                <a:ext cx="342720" cy="287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Oval 95"/>
              <p:cNvSpPr/>
              <p:nvPr/>
            </p:nvSpPr>
            <p:spPr>
              <a:xfrm>
                <a:off x="5614200" y="1347840"/>
                <a:ext cx="343440" cy="287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" name="Text Box 45"/>
            <p:cNvSpPr/>
            <p:nvPr/>
          </p:nvSpPr>
          <p:spPr>
            <a:xfrm>
              <a:off x="5704920" y="4051800"/>
              <a:ext cx="180216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ustry staging tr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3" name="Group 59"/>
            <p:cNvGrpSpPr/>
            <p:nvPr/>
          </p:nvGrpSpPr>
          <p:grpSpPr>
            <a:xfrm>
              <a:off x="3207600" y="4085640"/>
              <a:ext cx="1884960" cy="248400"/>
              <a:chOff x="3207600" y="4085640"/>
              <a:chExt cx="1884960" cy="248400"/>
            </a:xfrm>
          </p:grpSpPr>
          <p:sp>
            <p:nvSpPr>
              <p:cNvPr id="184" name="Line 12"/>
              <p:cNvSpPr/>
              <p:nvPr/>
            </p:nvSpPr>
            <p:spPr>
              <a:xfrm>
                <a:off x="3360240" y="4210920"/>
                <a:ext cx="1615680" cy="0"/>
              </a:xfrm>
              <a:prstGeom prst="line">
                <a:avLst/>
              </a:prstGeom>
              <a:ln w="22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Oval 94"/>
              <p:cNvSpPr/>
              <p:nvPr/>
            </p:nvSpPr>
            <p:spPr>
              <a:xfrm>
                <a:off x="3207600" y="4085640"/>
                <a:ext cx="303120" cy="24840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95"/>
              <p:cNvSpPr/>
              <p:nvPr/>
            </p:nvSpPr>
            <p:spPr>
              <a:xfrm>
                <a:off x="3735360" y="4085640"/>
                <a:ext cx="302760" cy="24840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96"/>
              <p:cNvSpPr/>
              <p:nvPr/>
            </p:nvSpPr>
            <p:spPr>
              <a:xfrm>
                <a:off x="4262400" y="4085640"/>
                <a:ext cx="302760" cy="24840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97"/>
              <p:cNvSpPr/>
              <p:nvPr/>
            </p:nvSpPr>
            <p:spPr>
              <a:xfrm>
                <a:off x="4789800" y="4085640"/>
                <a:ext cx="302760" cy="24840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Text Box 78"/>
            <p:cNvSpPr/>
            <p:nvPr/>
          </p:nvSpPr>
          <p:spPr>
            <a:xfrm>
              <a:off x="2801520" y="4278240"/>
              <a:ext cx="2206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TS Industry tre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118"/>
            <p:cNvGrpSpPr/>
            <p:nvPr/>
          </p:nvGrpSpPr>
          <p:grpSpPr>
            <a:xfrm>
              <a:off x="1958400" y="4859640"/>
              <a:ext cx="1175040" cy="163440"/>
              <a:chOff x="1958400" y="4859640"/>
              <a:chExt cx="1175040" cy="163440"/>
            </a:xfrm>
          </p:grpSpPr>
          <p:sp>
            <p:nvSpPr>
              <p:cNvPr id="191" name="Line 12"/>
              <p:cNvSpPr/>
              <p:nvPr/>
            </p:nvSpPr>
            <p:spPr>
              <a:xfrm>
                <a:off x="2053440" y="4942440"/>
                <a:ext cx="1008000" cy="0"/>
              </a:xfrm>
              <a:prstGeom prst="line">
                <a:avLst/>
              </a:prstGeom>
              <a:ln w="22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94"/>
              <p:cNvSpPr/>
              <p:nvPr/>
            </p:nvSpPr>
            <p:spPr>
              <a:xfrm>
                <a:off x="1958400" y="4859640"/>
                <a:ext cx="189000" cy="163440"/>
              </a:xfrm>
              <a:prstGeom prst="ellipse">
                <a:avLst/>
              </a:prstGeom>
              <a:gradFill rotWithShape="0">
                <a:gsLst>
                  <a:gs pos="0">
                    <a:srgbClr val="75dd75"/>
                  </a:gs>
                  <a:gs pos="100000">
                    <a:srgbClr val="36663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95"/>
              <p:cNvSpPr/>
              <p:nvPr/>
            </p:nvSpPr>
            <p:spPr>
              <a:xfrm>
                <a:off x="2287440" y="4859640"/>
                <a:ext cx="189000" cy="163440"/>
              </a:xfrm>
              <a:prstGeom prst="ellipse">
                <a:avLst/>
              </a:prstGeom>
              <a:gradFill rotWithShape="0">
                <a:gsLst>
                  <a:gs pos="0">
                    <a:srgbClr val="75dd75"/>
                  </a:gs>
                  <a:gs pos="100000">
                    <a:srgbClr val="36663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96"/>
              <p:cNvSpPr/>
              <p:nvPr/>
            </p:nvSpPr>
            <p:spPr>
              <a:xfrm>
                <a:off x="2617560" y="4859640"/>
                <a:ext cx="186480" cy="163440"/>
              </a:xfrm>
              <a:prstGeom prst="ellipse">
                <a:avLst/>
              </a:prstGeom>
              <a:gradFill rotWithShape="0">
                <a:gsLst>
                  <a:gs pos="0">
                    <a:srgbClr val="75dd75"/>
                  </a:gs>
                  <a:gs pos="100000">
                    <a:srgbClr val="36663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97"/>
              <p:cNvSpPr/>
              <p:nvPr/>
            </p:nvSpPr>
            <p:spPr>
              <a:xfrm>
                <a:off x="2945520" y="4859640"/>
                <a:ext cx="187920" cy="163440"/>
              </a:xfrm>
              <a:prstGeom prst="ellipse">
                <a:avLst/>
              </a:prstGeom>
              <a:gradFill rotWithShape="0">
                <a:gsLst>
                  <a:gs pos="0">
                    <a:srgbClr val="75dd75"/>
                  </a:gs>
                  <a:gs pos="100000">
                    <a:srgbClr val="36663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Line 26"/>
            <p:cNvSpPr/>
            <p:nvPr/>
          </p:nvSpPr>
          <p:spPr>
            <a:xfrm>
              <a:off x="3014640" y="3078360"/>
              <a:ext cx="29376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1"/>
            <p:cNvSpPr/>
            <p:nvPr/>
          </p:nvSpPr>
          <p:spPr>
            <a:xfrm flipV="1">
              <a:off x="7270200" y="2859840"/>
              <a:ext cx="193320" cy="77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2"/>
            <p:cNvSpPr/>
            <p:nvPr/>
          </p:nvSpPr>
          <p:spPr>
            <a:xfrm flipV="1">
              <a:off x="7571880" y="1703880"/>
              <a:ext cx="193320" cy="77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123"/>
            <p:cNvSpPr/>
            <p:nvPr/>
          </p:nvSpPr>
          <p:spPr>
            <a:xfrm>
              <a:off x="7148160" y="1967040"/>
              <a:ext cx="115308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inux-Next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4"/>
            <p:cNvSpPr/>
            <p:nvPr/>
          </p:nvSpPr>
          <p:spPr>
            <a:xfrm flipV="1">
              <a:off x="3130200" y="4580280"/>
              <a:ext cx="15444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25"/>
            <p:cNvSpPr/>
            <p:nvPr/>
          </p:nvSpPr>
          <p:spPr>
            <a:xfrm>
              <a:off x="2519640" y="5030280"/>
              <a:ext cx="15706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TSI Staging tr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6"/>
            <p:cNvSpPr/>
            <p:nvPr/>
          </p:nvSpPr>
          <p:spPr>
            <a:xfrm flipH="1">
              <a:off x="4468320" y="1709280"/>
              <a:ext cx="113076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7"/>
            <p:cNvSpPr/>
            <p:nvPr/>
          </p:nvSpPr>
          <p:spPr>
            <a:xfrm flipH="1">
              <a:off x="4756680" y="1726560"/>
              <a:ext cx="939600" cy="225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128"/>
            <p:cNvSpPr/>
            <p:nvPr/>
          </p:nvSpPr>
          <p:spPr>
            <a:xfrm>
              <a:off x="4143240" y="1832040"/>
              <a:ext cx="9169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g fi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129"/>
            <p:cNvSpPr/>
            <p:nvPr/>
          </p:nvSpPr>
          <p:spPr>
            <a:xfrm>
              <a:off x="3847320" y="3332160"/>
              <a:ext cx="1828080" cy="24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ature back-por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130"/>
            <p:cNvSpPr/>
            <p:nvPr/>
          </p:nvSpPr>
          <p:spPr>
            <a:xfrm>
              <a:off x="1684080" y="3199320"/>
              <a:ext cx="6893280" cy="221760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32"/>
            <p:cNvSpPr/>
            <p:nvPr/>
          </p:nvSpPr>
          <p:spPr>
            <a:xfrm>
              <a:off x="4604040" y="5843160"/>
              <a:ext cx="8863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3"/>
            <p:cNvSpPr/>
            <p:nvPr/>
          </p:nvSpPr>
          <p:spPr>
            <a:xfrm flipV="1">
              <a:off x="2221560" y="5045760"/>
              <a:ext cx="0" cy="72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5"/>
            <p:cNvSpPr/>
            <p:nvPr/>
          </p:nvSpPr>
          <p:spPr>
            <a:xfrm flipV="1">
              <a:off x="6599160" y="4384080"/>
              <a:ext cx="0" cy="148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136"/>
            <p:cNvSpPr/>
            <p:nvPr/>
          </p:nvSpPr>
          <p:spPr>
            <a:xfrm>
              <a:off x="1871640" y="5843160"/>
              <a:ext cx="8848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137"/>
            <p:cNvSpPr/>
            <p:nvPr/>
          </p:nvSpPr>
          <p:spPr>
            <a:xfrm>
              <a:off x="6226560" y="5843160"/>
              <a:ext cx="8848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40"/>
            <p:cNvSpPr/>
            <p:nvPr/>
          </p:nvSpPr>
          <p:spPr>
            <a:xfrm rot="20625000">
              <a:off x="5421960" y="4579920"/>
              <a:ext cx="846720" cy="258840"/>
            </a:xfrm>
            <a:custGeom>
              <a:avLst/>
              <a:gdLst>
                <a:gd name="textAreaLeft" fmla="*/ 0 w 846720"/>
                <a:gd name="textAreaRight" fmla="*/ 847080 w 8467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536" h="137">
                  <a:moveTo>
                    <a:pt x="0" y="0"/>
                  </a:moveTo>
                  <a:cubicBezTo>
                    <a:pt x="44" y="44"/>
                    <a:pt x="88" y="89"/>
                    <a:pt x="149" y="109"/>
                  </a:cubicBezTo>
                  <a:cubicBezTo>
                    <a:pt x="210" y="129"/>
                    <a:pt x="303" y="137"/>
                    <a:pt x="367" y="119"/>
                  </a:cubicBezTo>
                  <a:cubicBezTo>
                    <a:pt x="431" y="101"/>
                    <a:pt x="483" y="50"/>
                    <a:pt x="5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141"/>
            <p:cNvSpPr/>
            <p:nvPr/>
          </p:nvSpPr>
          <p:spPr>
            <a:xfrm>
              <a:off x="5352480" y="4861080"/>
              <a:ext cx="88488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atu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142"/>
            <p:cNvSpPr/>
            <p:nvPr/>
          </p:nvSpPr>
          <p:spPr>
            <a:xfrm>
              <a:off x="4773960" y="4873320"/>
              <a:ext cx="365400" cy="830160"/>
            </a:xfrm>
            <a:prstGeom prst="downArrow">
              <a:avLst>
                <a:gd name="adj1" fmla="val 50000"/>
                <a:gd name="adj2" fmla="val 5679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143"/>
            <p:cNvSpPr/>
            <p:nvPr/>
          </p:nvSpPr>
          <p:spPr>
            <a:xfrm>
              <a:off x="2998800" y="5843160"/>
              <a:ext cx="11851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g Fi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44"/>
            <p:cNvSpPr/>
            <p:nvPr/>
          </p:nvSpPr>
          <p:spPr>
            <a:xfrm>
              <a:off x="7486920" y="5843160"/>
              <a:ext cx="118512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g Fix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45"/>
            <p:cNvSpPr/>
            <p:nvPr/>
          </p:nvSpPr>
          <p:spPr>
            <a:xfrm flipV="1">
              <a:off x="3853440" y="4654800"/>
              <a:ext cx="0" cy="11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6"/>
            <p:cNvSpPr/>
            <p:nvPr/>
          </p:nvSpPr>
          <p:spPr>
            <a:xfrm flipV="1">
              <a:off x="7923960" y="2268000"/>
              <a:ext cx="0" cy="35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04"/>
            <p:cNvSpPr/>
            <p:nvPr/>
          </p:nvSpPr>
          <p:spPr>
            <a:xfrm>
              <a:off x="195480" y="5843160"/>
              <a:ext cx="1569600" cy="2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71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テキスト ボックス 74"/>
          <p:cNvSpPr/>
          <p:nvPr/>
        </p:nvSpPr>
        <p:spPr>
          <a:xfrm>
            <a:off x="597960" y="590400"/>
            <a:ext cx="47458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6040" indent="-176040">
              <a:lnSpc>
                <a:spcPct val="71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consists of three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5697360" y="3313080"/>
            <a:ext cx="2205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stream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スライド番号プレースホルダ 76"/>
          <p:cNvSpPr/>
          <p:nvPr/>
        </p:nvSpPr>
        <p:spPr>
          <a:xfrm>
            <a:off x="655308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40D4A-0373-4660-A718-D6E0CEFEE6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STI detai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lan (subject to change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year overlapping rele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gfixes from community longterm tree and product 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port of some features from main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ion of some (a very small set) of out-of-mainline patches (e.g. LTTng, RT-preempt, Linux-tin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uld have first release in June or Jul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pen Project Propos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s announced on celinux-dev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elinux.org/CELF_Open_Project_Proposal_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tecture Group voted on projects in early Ju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get BOD approval, then we’ll announce the projects for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Ver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9 – 19 May 2011 – 66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0 – 21 July 2011 – 63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1 –  24 Oct 2011 – 95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due to kernel.org brea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2 – 4 Jan 2012 – 72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3 – 18 Mar 2012 – 74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4 – 20 May 2012 – 63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3.5-rc2 – 9 June 2012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aybe 3.5 at start of Augu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ther Stuf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oo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EM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EMU is being used everywhere, for device emulation (Android, Yoc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QEMU implementation (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now de-facto “umbrella” tool for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to pry seasoned developers away from command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, Ftrace and LTTng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Trace Format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cto pro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mbrella project – has builder, eclipse tools, other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Embedded and Yocto are getting inte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talks at ELC  and ELC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ny is adopting Yo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ill lots of custom build systems out t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izen = MeeGo + Limo + (WAC technolog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as announced a few month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kia switching to Windows Mob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cus = HTML5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ttp://www.tizen.or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b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pen source announced, HP droppin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egacy custom embe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ill no “standard” embedded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roid 4.0 SDK (Ice Cream Sandwhich) released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ce Cream Sandwich unifies mobile, tablet and TV platforms in one code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ne activations at 900,000 per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lvik ported to non-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untu for Andr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interesting – use Android device as PC, when connected to dock (large screen and keyboa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stribu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240" name="Straight Arrow Connector 7"/>
          <p:cNvCxnSpPr/>
          <p:nvPr/>
        </p:nvCxnSpPr>
        <p:spPr>
          <a:xfrm>
            <a:off x="685440" y="1828440"/>
            <a:ext cx="746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lg"/>
          </a:ln>
        </p:spPr>
      </p:cxnSp>
      <p:sp>
        <p:nvSpPr>
          <p:cNvPr id="241" name="TextBox 9"/>
          <p:cNvSpPr/>
          <p:nvPr/>
        </p:nvSpPr>
        <p:spPr>
          <a:xfrm>
            <a:off x="1522440" y="2244600"/>
            <a:ext cx="10224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1231920" y="1947960"/>
            <a:ext cx="10764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6345360" y="5783400"/>
            <a:ext cx="1028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o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7567920" y="6072120"/>
            <a:ext cx="764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4123080" y="3622680"/>
            <a:ext cx="11577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Ångströ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6616800" y="4444920"/>
            <a:ext cx="877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17"/>
          <p:cNvSpPr/>
          <p:nvPr/>
        </p:nvSpPr>
        <p:spPr>
          <a:xfrm>
            <a:off x="4641840" y="4194000"/>
            <a:ext cx="941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5728320" y="4753080"/>
            <a:ext cx="674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7552440" y="4444920"/>
            <a:ext cx="73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4731840" y="3884760"/>
            <a:ext cx="688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3247560" y="5154480"/>
            <a:ext cx="206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ded Deb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2333880" y="2530440"/>
            <a:ext cx="1372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x ELD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23"/>
          <p:cNvSpPr/>
          <p:nvPr/>
        </p:nvSpPr>
        <p:spPr>
          <a:xfrm>
            <a:off x="5391360" y="5446800"/>
            <a:ext cx="2207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buntu (embedd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594720" y="1504800"/>
            <a:ext cx="686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1789560" y="1504800"/>
            <a:ext cx="686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28"/>
          <p:cNvSpPr/>
          <p:nvPr/>
        </p:nvSpPr>
        <p:spPr>
          <a:xfrm>
            <a:off x="2704680" y="1496880"/>
            <a:ext cx="686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29"/>
          <p:cNvSpPr/>
          <p:nvPr/>
        </p:nvSpPr>
        <p:spPr>
          <a:xfrm>
            <a:off x="3801600" y="1496880"/>
            <a:ext cx="686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4731840" y="1496880"/>
            <a:ext cx="686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31"/>
          <p:cNvSpPr/>
          <p:nvPr/>
        </p:nvSpPr>
        <p:spPr>
          <a:xfrm>
            <a:off x="5704200" y="1496880"/>
            <a:ext cx="686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2"/>
          <p:cNvSpPr/>
          <p:nvPr/>
        </p:nvSpPr>
        <p:spPr>
          <a:xfrm>
            <a:off x="6662160" y="1496880"/>
            <a:ext cx="686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37"/>
          <p:cNvSpPr/>
          <p:nvPr/>
        </p:nvSpPr>
        <p:spPr>
          <a:xfrm flipV="1">
            <a:off x="938160" y="1796760"/>
            <a:ext cx="0" cy="4359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traight Connector 39"/>
          <p:cNvSpPr/>
          <p:nvPr/>
        </p:nvSpPr>
        <p:spPr>
          <a:xfrm flipV="1">
            <a:off x="2128680" y="1750680"/>
            <a:ext cx="0" cy="4359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traight Connector 40"/>
          <p:cNvSpPr/>
          <p:nvPr/>
        </p:nvSpPr>
        <p:spPr>
          <a:xfrm flipV="1">
            <a:off x="3048120" y="1828440"/>
            <a:ext cx="0" cy="4357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41"/>
          <p:cNvSpPr/>
          <p:nvPr/>
        </p:nvSpPr>
        <p:spPr>
          <a:xfrm flipV="1">
            <a:off x="4141800" y="1850760"/>
            <a:ext cx="0" cy="4359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42"/>
          <p:cNvSpPr/>
          <p:nvPr/>
        </p:nvSpPr>
        <p:spPr>
          <a:xfrm flipV="1">
            <a:off x="5132520" y="1859040"/>
            <a:ext cx="0" cy="4357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43"/>
          <p:cNvSpPr/>
          <p:nvPr/>
        </p:nvSpPr>
        <p:spPr>
          <a:xfrm flipV="1">
            <a:off x="6157800" y="1859040"/>
            <a:ext cx="0" cy="4357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44"/>
          <p:cNvSpPr/>
          <p:nvPr/>
        </p:nvSpPr>
        <p:spPr>
          <a:xfrm flipV="1">
            <a:off x="7075440" y="1802880"/>
            <a:ext cx="0" cy="4357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45"/>
          <p:cNvSpPr/>
          <p:nvPr/>
        </p:nvSpPr>
        <p:spPr>
          <a:xfrm>
            <a:off x="3054240" y="2225520"/>
            <a:ext cx="1322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a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traight Connector 47"/>
          <p:cNvSpPr/>
          <p:nvPr/>
        </p:nvSpPr>
        <p:spPr>
          <a:xfrm>
            <a:off x="3700440" y="5925960"/>
            <a:ext cx="2643120" cy="0"/>
          </a:xfrm>
          <a:prstGeom prst="line">
            <a:avLst/>
          </a:prstGeom>
          <a:ln w="50760">
            <a:solidFill>
              <a:srgbClr val="92d050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Straight Connector 48"/>
          <p:cNvSpPr/>
          <p:nvPr/>
        </p:nvSpPr>
        <p:spPr>
          <a:xfrm>
            <a:off x="7345440" y="5925960"/>
            <a:ext cx="625320" cy="0"/>
          </a:xfrm>
          <a:prstGeom prst="line">
            <a:avLst/>
          </a:prstGeom>
          <a:ln w="507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Elbow Connector 51"/>
          <p:cNvCxnSpPr/>
          <p:nvPr/>
        </p:nvCxnSpPr>
        <p:spPr>
          <a:xfrm flipH="1" rot="16200000">
            <a:off x="7081200" y="5853960"/>
            <a:ext cx="144720" cy="579960"/>
          </a:xfrm>
          <a:prstGeom prst="bentConnector2">
            <a:avLst/>
          </a:prstGeom>
          <a:ln w="50760">
            <a:solidFill>
              <a:srgbClr val="92d050"/>
            </a:solidFill>
            <a:round/>
          </a:ln>
        </p:spPr>
      </p:cxnSp>
      <p:sp>
        <p:nvSpPr>
          <p:cNvPr id="272" name="Straight Connector 55"/>
          <p:cNvSpPr/>
          <p:nvPr/>
        </p:nvSpPr>
        <p:spPr>
          <a:xfrm>
            <a:off x="4383000" y="2371680"/>
            <a:ext cx="3770280" cy="19080"/>
          </a:xfrm>
          <a:prstGeom prst="line">
            <a:avLst/>
          </a:prstGeom>
          <a:ln w="507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Straight Connector 56"/>
          <p:cNvSpPr/>
          <p:nvPr/>
        </p:nvSpPr>
        <p:spPr>
          <a:xfrm>
            <a:off x="2590920" y="2371680"/>
            <a:ext cx="457200" cy="0"/>
          </a:xfrm>
          <a:prstGeom prst="line">
            <a:avLst/>
          </a:prstGeom>
          <a:ln w="507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traight Connector 61"/>
          <p:cNvSpPr/>
          <p:nvPr/>
        </p:nvSpPr>
        <p:spPr>
          <a:xfrm>
            <a:off x="2325600" y="2093760"/>
            <a:ext cx="1332000" cy="0"/>
          </a:xfrm>
          <a:prstGeom prst="line">
            <a:avLst/>
          </a:prstGeom>
          <a:ln w="50760">
            <a:solidFill>
              <a:srgbClr val="009973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traight Connector 62"/>
          <p:cNvSpPr/>
          <p:nvPr/>
        </p:nvSpPr>
        <p:spPr>
          <a:xfrm>
            <a:off x="3657600" y="2655720"/>
            <a:ext cx="4495680" cy="20880"/>
          </a:xfrm>
          <a:prstGeom prst="line">
            <a:avLst/>
          </a:prstGeom>
          <a:ln w="50760">
            <a:solidFill>
              <a:srgbClr val="222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65"/>
          <p:cNvSpPr/>
          <p:nvPr/>
        </p:nvSpPr>
        <p:spPr>
          <a:xfrm>
            <a:off x="5519520" y="4451400"/>
            <a:ext cx="8514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67"/>
          <p:cNvSpPr/>
          <p:nvPr/>
        </p:nvSpPr>
        <p:spPr>
          <a:xfrm>
            <a:off x="4638240" y="3343320"/>
            <a:ext cx="19044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River 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68"/>
          <p:cNvSpPr/>
          <p:nvPr/>
        </p:nvSpPr>
        <p:spPr>
          <a:xfrm>
            <a:off x="2134080" y="2822400"/>
            <a:ext cx="20462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ys Linux 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69"/>
          <p:cNvSpPr/>
          <p:nvPr/>
        </p:nvSpPr>
        <p:spPr>
          <a:xfrm>
            <a:off x="3023640" y="3052800"/>
            <a:ext cx="14364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ux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70"/>
          <p:cNvSpPr/>
          <p:nvPr/>
        </p:nvSpPr>
        <p:spPr>
          <a:xfrm>
            <a:off x="5383080" y="3768840"/>
            <a:ext cx="2730600" cy="0"/>
          </a:xfrm>
          <a:prstGeom prst="line">
            <a:avLst/>
          </a:prstGeom>
          <a:ln w="507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traight Connector 73"/>
          <p:cNvSpPr/>
          <p:nvPr/>
        </p:nvSpPr>
        <p:spPr>
          <a:xfrm>
            <a:off x="5424480" y="4030560"/>
            <a:ext cx="2679840" cy="288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24"/>
          <p:cNvSpPr/>
          <p:nvPr/>
        </p:nvSpPr>
        <p:spPr>
          <a:xfrm>
            <a:off x="7016400" y="3900600"/>
            <a:ext cx="764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ccccc"/>
                </a:solidFill>
                <a:latin typeface="Arial"/>
              </a:rPr>
              <a:t>Yo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Straight Connector 77"/>
          <p:cNvSpPr/>
          <p:nvPr/>
        </p:nvSpPr>
        <p:spPr>
          <a:xfrm>
            <a:off x="6534000" y="3487680"/>
            <a:ext cx="15703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Straight Connector 79"/>
          <p:cNvSpPr/>
          <p:nvPr/>
        </p:nvSpPr>
        <p:spPr>
          <a:xfrm>
            <a:off x="4145040" y="2948040"/>
            <a:ext cx="4000320" cy="2052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Straight Connector 81"/>
          <p:cNvSpPr/>
          <p:nvPr/>
        </p:nvSpPr>
        <p:spPr>
          <a:xfrm>
            <a:off x="4502160" y="3178080"/>
            <a:ext cx="3611520" cy="20880"/>
          </a:xfrm>
          <a:prstGeom prst="line">
            <a:avLst/>
          </a:prstGeom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6" name="Elbow Connector 85"/>
          <p:cNvCxnSpPr>
            <a:endCxn id="246" idx="0"/>
          </p:cNvCxnSpPr>
          <p:nvPr/>
        </p:nvCxnSpPr>
        <p:spPr>
          <a:xfrm>
            <a:off x="5601960" y="4325400"/>
            <a:ext cx="1454760" cy="119880"/>
          </a:xfrm>
          <a:prstGeom prst="bentConnector2">
            <a:avLst/>
          </a:prstGeom>
          <a:ln w="50760">
            <a:solidFill>
              <a:srgbClr val="dd37d5"/>
            </a:solidFill>
            <a:round/>
          </a:ln>
        </p:spPr>
      </p:cxnSp>
      <p:sp>
        <p:nvSpPr>
          <p:cNvPr id="287" name="Straight Connector 88"/>
          <p:cNvSpPr/>
          <p:nvPr/>
        </p:nvSpPr>
        <p:spPr>
          <a:xfrm>
            <a:off x="6364440" y="4591080"/>
            <a:ext cx="245880" cy="0"/>
          </a:xfrm>
          <a:prstGeom prst="line">
            <a:avLst/>
          </a:prstGeom>
          <a:ln w="50760">
            <a:solidFill>
              <a:srgbClr val="927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Straight Connector 90"/>
          <p:cNvSpPr/>
          <p:nvPr/>
        </p:nvSpPr>
        <p:spPr>
          <a:xfrm>
            <a:off x="7443720" y="4591080"/>
            <a:ext cx="169920" cy="0"/>
          </a:xfrm>
          <a:prstGeom prst="line">
            <a:avLst/>
          </a:prstGeom>
          <a:ln w="50760">
            <a:solidFill>
              <a:srgbClr val="927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Elbow Connector 98"/>
          <p:cNvCxnSpPr>
            <a:stCxn id="248" idx="3"/>
            <a:endCxn id="249" idx="2"/>
          </p:cNvCxnSpPr>
          <p:nvPr/>
        </p:nvCxnSpPr>
        <p:spPr>
          <a:xfrm flipV="1">
            <a:off x="6408360" y="4736520"/>
            <a:ext cx="1513800" cy="162360"/>
          </a:xfrm>
          <a:prstGeom prst="bentConnector2">
            <a:avLst/>
          </a:prstGeom>
          <a:ln w="50760">
            <a:solidFill>
              <a:srgbClr val="63a5a5"/>
            </a:solidFill>
            <a:round/>
          </a:ln>
        </p:spPr>
      </p:cxnSp>
      <p:sp>
        <p:nvSpPr>
          <p:cNvPr id="290" name="Straight Connector 99"/>
          <p:cNvSpPr/>
          <p:nvPr/>
        </p:nvSpPr>
        <p:spPr>
          <a:xfrm>
            <a:off x="5288040" y="5276880"/>
            <a:ext cx="2662200" cy="0"/>
          </a:xfrm>
          <a:prstGeom prst="line">
            <a:avLst/>
          </a:prstGeom>
          <a:ln w="50760">
            <a:solidFill>
              <a:srgbClr val="a04e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Straight Connector 101"/>
          <p:cNvSpPr/>
          <p:nvPr/>
        </p:nvSpPr>
        <p:spPr>
          <a:xfrm>
            <a:off x="7613640" y="5591160"/>
            <a:ext cx="357120" cy="0"/>
          </a:xfrm>
          <a:prstGeom prst="line">
            <a:avLst/>
          </a:prstGeom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Industry organiz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199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Fou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lots of embedded-related pro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cto, Tizen, LT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 Work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utilizing LF infra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a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ing lots of great stu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avid Rusling’s ELC 2011 tal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Ev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Conference –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Builders Summit – February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Con Japan – June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great presentation – almost all on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 Jambor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xt = June 21, Nakano Sun Plaza, Tok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elinux.org/Japan_Technical_Jamboree_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Linux Conference Europe 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ember 7-9,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celona, Sp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iscellaneou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use of Stack Over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eat site for answering detailed development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www.youtube.com/watch?v=NWHfY_lvKI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 developers answer questions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: “site:stackoverflow.com &lt;question&gt;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spberry P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emely low-cost development board - $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rgeted at students and hobby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9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t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information from dying kernel into some persistent 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mtdoops or ramo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http://lwn.net/Articles/434821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ice power domains for runtime P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arch tree changes (just start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457200" y="1719360"/>
            <a:ext cx="8209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inux wik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ttp://elinux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b site dedicated to information for embedded Linux develo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wikipedia of embedded linux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undreds of page covering numerous topic areas: bootup time, realtime, security, power management, flash filesystem, toolchain, ed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me areas have lots of content – some need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752480" y="1719000"/>
            <a:ext cx="69040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Kernel Ver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Technology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CE Workgroup Proje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bfbfbf"/>
                </a:solidFill>
                <a:latin typeface="Arial"/>
              </a:rPr>
              <a:t>Other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WN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lwn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are not subscribed, please do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Newb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kernelnewbies.org/Linux_2_6_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inux wiki - </a:t>
            </a:r>
            <a:r>
              <a:rPr b="0" lang="en-GB" sz="3000" spc="-1" strike="noStrike">
                <a:solidFill>
                  <a:srgbClr val="3333cc"/>
                </a:solidFill>
                <a:latin typeface="Arial"/>
              </a:rPr>
              <a:t>http://elinux.org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elinux.org/Event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r sl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-embedded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Arial"/>
              </a:rPr>
              <a:t>http://vger.kernel.org/vger-lists.html#linux-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401940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st symbol resolution for module lo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search instead of linear lookup for module l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X alarm tim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Android Alarm Ti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429935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KL function calls are now g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e ARM arch tree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chdog timer c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framework for handling power management domains was ad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river/base/power/domain.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ARM SoCs now have device tree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719000"/>
            <a:ext cx="81993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pin control sub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control of multiple pins as named groups, with multiplex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pinctrlt.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ELC 2012 talk by Linus Walle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freq – DVFS for non-cpu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M QOS now supports per-device 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Documentation/power/pm_qos_interface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4662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1356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3.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719000"/>
            <a:ext cx="815328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large physcial address ext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Catalin Marinas talk at ELC Europe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A support for compressed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“charger manager” sub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partially resume to poll battery and re-susp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262699"/>
              </a:buClr>
              <a:buSzPct val="15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oid patches in sta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really c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32946a"/>
              </a:buClr>
              <a:buSzPct val="13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don’t use any interfaces from code in staging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Bird, Tim</cp:lastModifiedBy>
  <dcterms:modified xsi:type="dcterms:W3CDTF">2012-06-13T03:30:35Z</dcterms:modified>
  <cp:revision>209</cp:revision>
  <dc:subject/>
  <dc:title>elinux status</dc:title>
</cp:coreProperties>
</file>